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2385-4980-4C45-95B3-1EC646C8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50A-8009-4975-B6AA-643B3CA6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5ACC-4CDD-443D-84D5-9AE6EC1A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864A-E530-4EF3-8D91-1C18F88D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5AA8D-68FD-4F06-845F-6A63DD0D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1BFAB-C84F-4F2D-8A99-EF1EA614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6172F-C084-408B-BFF1-B2150CEC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4A574-C790-48FB-9F00-D0E9CE5C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F169B-1B4C-4E10-BABD-3EDEF021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67503-5B83-464D-827D-224E4B94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5244F-0EA5-454A-AC5B-F99BA01A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4CF-0F96-474A-8D93-4DCEB711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B848E-074A-4222-A6BE-5734A5BA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AC3AE-26D0-4CD7-AB00-A2C3835D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0CE7D-302D-4A7E-A49C-671636A6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EAF4C-EB19-45EB-B096-9E2CD1C1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FFB4A-98F5-465A-B347-E67CBA79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C98-2977-4130-B64B-C889E62B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A9C-0E1E-44B1-94D4-AB7B244F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021-A0A4-4EAF-9C46-DC6DFE2A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41F6-8D18-40F9-8A2B-CA813529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10D-D997-4E95-A590-9212F706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D08-ECF5-44DB-893D-DB90D252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A75-E92B-4012-AFD9-5E579330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2E5E-0146-429A-83B9-CC0860A36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E424-E10E-4514-ABA7-8CAD185221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Eras Demi ITC"/>
              </a:rPr>
              <a:t>Separation of Powers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Eras Demi ITC"/>
              </a:rPr>
              <a:t>Checks and Balanc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440" y="358128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Eras Light ITC"/>
              </a:rPr>
              <a:t>How do these principles of democracy protect the people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3048120" y="0"/>
            <a:ext cx="312408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6172200" y="0"/>
            <a:ext cx="2971800" cy="1616040"/>
          </a:xfrm>
          <a:prstGeom prst="rect">
            <a:avLst/>
          </a:prstGeom>
          <a:ln w="0">
            <a:noFill/>
          </a:ln>
        </p:spPr>
      </p:pic>
      <p:pic>
        <p:nvPicPr>
          <p:cNvPr id="88" name="Men Without Hats - The Safety Dance.mp3" descr=""/>
          <p:cNvPicPr/>
          <p:nvPr/>
        </p:nvPicPr>
        <p:blipFill>
          <a:blip r:embed="rId4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dance animation"/>
          <p:cNvPicPr/>
          <p:nvPr/>
        </p:nvPicPr>
        <p:blipFill>
          <a:blip r:embed="rId5"/>
          <a:stretch/>
        </p:blipFill>
        <p:spPr>
          <a:xfrm>
            <a:off x="152280" y="5181480"/>
            <a:ext cx="952560" cy="1467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dance animation 2"/>
          <p:cNvPicPr/>
          <p:nvPr/>
        </p:nvPicPr>
        <p:blipFill>
          <a:blip r:embed="rId6"/>
          <a:stretch/>
        </p:blipFill>
        <p:spPr>
          <a:xfrm>
            <a:off x="7858080" y="4800600"/>
            <a:ext cx="12859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2.0)">
                                      <p:cBhvr>
                                        <p:cTn id="6" dur="15927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" nodeType="after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7350"/>
                            </p:stCondLst>
                            <p:childTnLst>
                              <p:par>
                                <p:cTn id="35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4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135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59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60" dur="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535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76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9350"/>
                            </p:stCondLst>
                            <p:childTnLst>
                              <p:par>
                                <p:cTn id="83" nodeType="afterEffect" fill="hold" presetClass="exit" presetID="3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350"/>
                            </p:stCondLst>
                            <p:childTnLst>
                              <p:par>
                                <p:cTn id="92" nodeType="afterEffect" fill="hold" presetClass="exit" presetID="5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95" dur="123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6" dur="123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9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98" dur="123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9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9850"/>
                            </p:stCondLst>
                            <p:childTnLst>
                              <p:par>
                                <p:cTn id="102" nodeType="afterEffect" fill="hold" presetClass="exit" presetID="39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2850"/>
                            </p:stCondLst>
                            <p:childTnLst>
                              <p:par>
                                <p:cTn id="109" nodeType="afterEffect" fill="hold" presetClass="exit" presetID="39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45850"/>
                            </p:stCondLst>
                            <p:childTnLst>
                              <p:par>
                                <p:cTn id="116" nodeType="afterEffect" fill="hold" presetClass="path" presetID="0" repeatCount="1000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-3.33333E-006 -3.50601E-006 C -0.01336 0.00139 -0.02517 0.0037 -0.03836 0.00624 C -0.05451 0.01341 -0.06684 0.02683 -0.08003 0.04093 C -0.08732 0.04856 -0.09566 0.07493 -0.1 0.08603 C -0.10121 0.09436 -0.1026 0.10245 -0.10451 0.11078 C -0.10573 0.12419 -0.10746 0.13645 -0.1092 0.14963 C -0.11093 0.18779 -0.11145 0.24861 -0.1276 0.28284 C -0.1302 0.29625 -0.13298 0.3129 -0.13993 0.32377 C -0.15416 0.34621 -0.18229 0.35314 -0.20312 0.35661 C -0.21961 0.35523 -0.23906 0.3543 -0.25538 0.34852 C -0.2585 0.34736 -0.26145 0.34551 -0.26458 0.34436 C -0.26961 0.34274 -0.28003 0.34019 -0.28003 0.34019 C -0.28993 0.33487 -0.30034 0.32932 -0.31076 0.32585 C -0.32205 0.31545 -0.30764 0.32747 -0.32152 0.31984 C -0.32986 0.31522 -0.33732 0.30735 -0.34618 0.30342 C -0.35295 0.29718 -0.35885 0.28978 -0.36614 0.28492 C -0.37656 0.27058 -0.38576 0.25277 -0.39375 0.23566 C -0.39548 0.23196 -0.39548 0.22733 -0.39687 0.2234 C -0.39809 0.2204 -0.40017 0.21808 -0.40156 0.21531 C -0.40764 0.20328 -0.41284 0.19056 -0.4184 0.17831 C -0.42031 0.17414 -0.42326 0.17067 -0.42465 0.16605 C -0.42882 0.15171 -0.43368 0.13298 -0.44149 0.12095 C -0.46024 0.09227 -0.49218 0.0784 -0.51996 0.07377 C -0.54809 0.07539 -0.55503 0.07585 -0.57847 0.0821 C -0.58003 0.08256 -0.5993 0.09366 -0.6 0.09436 C -0.60312 0.09713 -0.60555 0.10129 -0.6092 0.10245 C -0.61788 0.10546 -0.62691 0.11101 -0.63385 0.11887 C -0.64878 0.13575 -0.66354 0.1531 -0.67847 0.17021 C -0.6842 0.17669 -0.6875 0.18455 -0.69375 0.19056 C -0.6993 0.20282 -0.70694 0.21323 -0.71232 0.22548 C -0.71389 0.22895 -0.71545 0.23219 -0.71684 0.23566 C -0.71909 0.24098 -0.72309 0.25208 -0.72309 0.25208 C -0.72691 0.27659 -0.7302 0.30111 -0.73229 0.32585 C -0.73125 0.35592 -0.73073 0.38645 -0.72604 0.41605 C -0.725 0.42276 -0.72413 0.43432 -0.72152 0.44056 C -0.71302 0.46068 -0.69652 0.47479 -0.68298 0.48774 C -0.67083 0.4993 -0.66128 0.51133 -0.64618 0.51434 C -0.63645 0.51873 -0.62621 0.51226 -0.61684 0.50832 C -0.59722 0.50023 -0.57656 0.49052 -0.5585 0.47757 C -0.5526 0.4734 -0.54739 0.46739 -0.54149 0.46323 C -0.51857 0.44681 -0.49566 0.42946 -0.47222 0.41397 C -0.45555 0.4031 -0.43958 0.38992 -0.42152 0.38321 C -0.38507 0.36956 -0.34861 0.36054 -0.31076 0.35661 C -0.28663 0.35106 -0.3158 0.35731 -0.26458 0.35245 C -0.24323 0.35037 -0.22152 0.34644 -0.2 0.34436 C -0.17187 0.34644 -0.14323 0.34782 -0.11527 0.35245 C -0.10503 0.35407 -0.09461 0.358 -0.08455 0.36078 C -0.08194 0.36147 -0.07691 0.36286 -0.07691 0.36286 C -0.06788 0.36864 -0.05764 0.37026 -0.04774 0.37303 C -0.03836 0.38136 -0.02534 0.38205 -0.01684 0.39153 C -0.01684 0.39153 -0.00347 0.40934 -3.33333E-006 0.41397 C 0.00261 0.41744 0.0092 0.42229 0.0092 0.42229 C 0.01598 0.43524 0.00816 0.42183 0.01702 0.43247 C 0.02414 0.44103 0.029 0.45028 0.03698 0.45698 C 0.04045 0.46392 0.04115 0.47063 0.04462 0.47757 C 0.04584 0.49098 0.04549 0.49954 0.05087 0.51041 C 0.05261 0.52081 0.05486 0.52521 0.05851 0.53492 C 0.06146 0.54278 0.06216 0.55319 0.0632 0.56152 C 0.06181 0.5858 0.06094 0.62673 0.05382 0.64963 C 0.04618 0.67414 0.03368 0.70028 0.01858 0.71739 C 0.00764 0.72988 -0.01007 0.73404 -0.02309 0.7419 C -0.06875 0.76919 -0.12465 0.77035 -0.17378 0.77266 C -0.20312 0.77752 -0.23194 0.77636 -0.26145 0.77474 C -0.27795 0.77035 -0.28923 0.76804 -0.30607 0.76642 C -0.3184 0.76318 -0.33073 0.76064 -0.34305 0.75832 C -0.36441 0.74861 -0.35503 0.75139 -0.37066 0.74815 C -0.38281 0.74283 -0.39652 0.73589 -0.40764 0.72757 C -0.41371 0.72294 -0.41788 0.71831 -0.42465 0.71531 C -0.4368 0.69912 -0.44757 0.69449 -0.45225 0.67021 C -0.45139 0.64616 -0.45416 0.62789 -0.44461 0.60869 C -0.44166 0.5932 -0.43576 0.58765 -0.4276 0.57794 C -0.40451 0.55065 -0.37916 0.53515 -0.34913 0.52474 C -0.31319 0.51226 -0.27656 0.50578 -0.23993 0.49792 C -0.22604 0.49491 -0.21354 0.48797 -0.2 0.48358 C -0.18507 0.47872 -0.17031 0.4741 -0.15538 0.46924 C -0.12291 0.45837 -0.09132 0.45028 -0.06145 0.43039 C -0.05 0.4098 -0.06527 0.43524 -0.04913 0.41605 C -0.03455 0.3987 -0.05434 0.40957 -0.02916 0.38737 C -0.02604 0.3846 -0.02274 0.38228 -0.01996 0.37928 C -0.00434 0.36216 0.00452 0.34042 0.01077 0.31568 C 0.0132 0.30643 0.01667 0.29856 0.01858 0.28908 C 0.01684 0.26781 0.01372 0.24722 0.00764 0.22757 C 0.00469 0.20536 -0.00208 0.16512 -0.01232 0.14755 C -0.02291 0.12928 -0.03368 0.11771 -0.04774 0.10453 C -0.05034 0.10199 -0.05295 0.09944 -0.05538 0.09644 C -0.05746 0.09389 -0.05902 0.09042 -0.06145 0.08811 C -0.07916 0.07123 -0.10086 0.05481 -0.12152 0.0451 C -0.16927 0.02289 -0.22031 0.01341 -0.27066 0.00832 C -0.28611 0.00902 -0.30156 0.00879 -0.31684 0.01017 C -0.33177 0.01156 -0.34826 0.01873 -0.36302 0.02266 C -0.37395 0.0296 -0.38576 0.03446 -0.39687 0.04093 C -0.40816 0.04764 -0.41875 0.05712 -0.42916 0.06568 C -0.44461 0.0784 -0.46909 0.09644 -0.48003 0.11679 C -0.48455 0.12511 -0.48906 0.13344 -0.49375 0.14153 C -0.49548 0.14454 -0.49826 0.14639 -0.5 0.14963 C -0.50625 0.16119 -0.51371 0.17854 -0.51684 0.19264 C -0.51857 0.20074 -0.51944 0.20906 -0.52152 0.21716 C -0.51805 0.26387 -0.4993 0.27937 -0.47066 0.30134 C -0.44965 0.31753 -0.42621 0.33187 -0.40312 0.34227 C -0.37673 0.35407 -0.34566 0.35476 -0.3184 0.35661 C -0.2533 0.3543 -0.18819 0.35268 -0.12309 0.35037 C -0.08715 0.35199 -0.05069 0.34759 -0.01527 0.35661 C 0.00243 0.36124 0.01823 0.3691 0.03542 0.37511 C 0.04532 0.3839 0.05261 0.39362 0.06007 0.40587 C 0.06233 0.4098 0.06407 0.41397 0.06615 0.41813 C 0.06719 0.42021 0.06927 0.42414 0.06927 0.42414 C 0.0724 0.43894 0.07466 0.45236 0.07691 0.46739 C 0.07743 0.47086 0.07848 0.47757 0.07848 0.47757 C 0.07795 0.4919 0.07865 0.50647 0.07691 0.52058 C 0.07448 0.54116 0.05938 0.56522 0.04931 0.58002 C 0.03924 0.59459 0.029 0.61101 0.01702 0.62303 C -0.02118 0.66096 -0.07239 0.67461 -0.1184 0.68247 C -0.15017 0.68131 -0.17343 0.67946 -0.20312 0.67437 C -0.26163 0.64778 -0.31753 0.61286 -0.37534 0.58418 C -0.39687 0.57354 -0.41961 0.56683 -0.44149 0.55735 C -0.44461 0.55597 -0.44757 0.55435 -0.45069 0.55342 C -0.45677 0.55157 -0.46927 0.54926 -0.46927 0.54926 C -0.49861 0.55041 -0.52326 0.54856 -0.55069 0.55735 C -0.5533 0.55828 -0.56007 0.5592 -0.56302 0.56152 C -0.5783 0.57308 -0.59218 0.59204 -0.6 0.61286 C -0.60139 0.62234 -0.60295 0.63205 -0.60451 0.64153 C -0.60538 0.64708 -0.60764 0.65795 -0.60764 0.65795 C -0.60625 0.66929 -0.60468 0.6827 -0.6 0.69264 C -0.59583 0.70143 -0.59236 0.71115 -0.58611 0.71739 C -0.56163 0.74167 -0.53107 0.74584 -0.50156 0.74815 C -0.46232 0.74468 -0.44114 0.73497 -0.40607 0.71531 C -0.39618 0.70213 -0.38507 0.69126 -0.37691 0.67622 C -0.37083 0.64431 -0.38073 0.61124 -0.38923 0.5821 C -0.39375 0.56637 -0.39479 0.5481 -0.4 0.53284 C -0.40434 0.51989 -0.41145 0.51041 -0.4184 0.5 C -0.43819 0.47063 -0.46215 0.44889 -0.4908 0.43871 C -0.50156 0.43501 -0.52517 0.43501 -0.53073 0.43455 C -0.56007 0.4364 -0.58437 0.43941 -0.61232 0.44889 C -0.62048 0.45166 -0.62899 0.45259 -0.6368 0.45698 C -0.69184 0.48844 -0.74444 0.51318 -0.80451 0.52058 C -0.80868 0.51989 -0.81302 0.52035 -0.81684 0.5185 C -0.82361 0.51526 -0.83107 0.49005 -0.83541 0.48173 C -0.83628 0.47572 -0.83645 0.47086 -0.83836 0.46531 C -0.84027 0.45976 -0.84461 0.44889 -0.84461 0.44889 C -0.84826 0.42969 -0.84687 0.43802 -0.84913 0.42414 C -0.85243 0.37696 -0.86145 0.31637 -0.83993 0.27474 C -0.83645 0.25647 -0.82725 0.24514 -0.8184 0.2315 C -0.81354 0.2241 -0.81076 0.21855 -0.80451 0.21323 C -0.79722 0.19773 -0.7875 0.19588 -0.77534 0.19056 C -0.74444 0.1975 -0.70989 0.2278 -0.68455 0.25208 C -0.6783 0.2648 -0.66875 0.27313 -0.66145 0.28492 C -0.65086 0.30227 -0.64149 0.32123 -0.63073 0.33811 C -0.62395 0.34875 -0.61996 0.36378 -0.61389 0.37511 C -0.6092 0.3839 -0.6026 0.39223 -0.59843 0.40171 C -0.59357 0.41281 -0.5908 0.42553 -0.58611 0.43663 C -0.58489 0.43964 -0.58264 0.44172 -0.58142 0.44473 C -0.5776 0.45375 -0.57812 0.46276 -0.57378 0.47132 C -0.56996 0.48659 -0.56354 0.50462 -0.55382 0.51434 C -0.54739 0.52729 -0.55364 0.51619 -0.53836 0.53284 C -0.52274 0.54972 -0.51111 0.55296 -0.49236 0.55943 C -0.47361 0.55805 -0.46649 0.55689 -0.45069 0.55342 C -0.44253 0.54625 -0.4309 0.53885 -0.42309 0.53076 C -0.41024 0.51757 -0.39913 0.50092 -0.38767 0.48566 C -0.37309 0.46623 -0.35937 0.44866 -0.34774 0.42622 C -0.34583 0.42252 -0.34375 0.41929 -0.34149 0.41605 C -0.33958 0.41327 -0.33715 0.41096 -0.33541 0.40795 C -0.32569 0.38992 -0.31632 0.36748 -0.30764 0.34852 C -0.30052 0.33279 -0.30312 0.33534 -0.29843 0.32169 C -0.29652 0.31614 -0.29236 0.3055 -0.29236 0.3055 C -0.29184 0.30203 -0.29184 0.29833 -0.2908 0.2951 C -0.28906 0.28931 -0.28455 0.27868 -0.28455 0.27868 C -0.28159 0.25902 -0.28524 0.27775 -0.27847 0.25832 C -0.27656 0.25277 -0.27152 0.23566 -0.26927 0.22757 C -0.26649 0.21831 -0.25868 0.21022 -0.25382 0.20282 C -0.24861 0.19473 -0.25017 0.19403 -0.24305 0.18848 C -0.2335 0.18108 -0.22725 0.17969 -0.21684 0.17622 C -0.20451 0.17692 -0.19218 0.17599 -0.18003 0.17831 C -0.15295 0.18339 -0.12951 0.20999 -0.11389 0.23774 C -0.10798 0.24815 -0.10034 0.25717 -0.09531 0.2685 C -0.08628 0.28908 -0.07205 0.32215 -0.0677 0.34436 C -0.06597 0.35291 -0.05989 0.36887 -0.05989 0.36887 C -0.05764 0.38275 -0.05503 0.39408 -0.04913 0.40587 C -0.04652 0.42114 -0.03993 0.43432 -0.03541 0.44889 C -0.02291 0.48959 0.004 0.51711 0.03542 0.52868 C 0.04618 0.52798 0.05712 0.52983 0.06771 0.52683 C 0.0724 0.52544 0.07587 0.51989 0.08004 0.51642 C 0.08386 0.51318 0.08855 0.51156 0.09236 0.50832 C 0.09792 0.50347 0.10365 0.49884 0.1092 0.49399 C 0.11858 0.48612 0.125 0.47202 0.1323 0.46115 C 0.14792 0.43756 0.16164 0.41304 0.17535 0.38737 C 0.18195 0.37488 0.18889 0.36286 0.19549 0.35037 C 0.19844 0.34482 0.20243 0.34019 0.20469 0.33418 C 0.21094 0.3173 0.21771 0.30088 0.22466 0.28492 C 0.23039 0.27197 0.2349 0.2574 0.24011 0.24399 C 0.24271 0.23751 0.24289 0.23173 0.24618 0.22548 C 0.24879 0.21115 0.25382 0.19449 0.26007 0.18247 C 0.26233 0.17345 0.26372 0.16559 0.26771 0.15772 C 0.27309 0.1302 0.30018 0.09898 0.31997 0.09227 C 0.33316 0.08048 0.35243 0.0777 0.36771 0.07585 C 0.37344 0.07655 0.38473 0.07794 0.38473 0.07794 E">
                                      <p:cBhvr>
                                        <p:cTn id="117" dur="5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835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15541E-006 C 0.00695 -0.00925 0.01146 -0.02173 0.0184 -0.03075 C 0.03576 -0.05319 0.04583 -0.0747 0.0507 -0.10638 C 0.05017 -0.12072 0.05104 -0.13529 0.04913 -0.14963 C 0.04844 -0.15564 0.04514 -0.1605 0.04306 -0.16581 C 0.03646 -0.18339 0.02674 -0.20235 0.02309 -0.22132 C 0.02413 -0.23913 0.02431 -0.25693 0.02604 -0.27451 C 0.02708 -0.28469 0.03056 -0.28492 0.03386 -0.29301 C 0.0408 -0.30989 0.04722 -0.32701 0.05851 -0.34019 C 0.08299 -0.36864 0.11701 -0.37326 0.14618 -0.38922 C 0.15451 -0.39384 0.16198 -0.39593 0.16927 -0.40356 C 0.19011 -0.4253 0.19653 -0.46531 0.20156 -0.49791 C 0.20052 -0.51942 0.19861 -0.53839 0.19688 -0.55943 C 0.19757 -0.57585 0.19479 -0.59366 0.2 -0.60869 C 0.22535 -0.68131 0.28056 -0.6857 0.33386 -0.69472 C 0.37136 -0.69357 0.38958 -0.69125 0.42153 -0.6864 C 0.42813 -0.68408 0.43507 -0.68316 0.44149 -0.68038 C 0.45695 -0.67391 0.47083 -0.66281 0.48455 -0.65171 C 0.48889 -0.64824 0.49392 -0.64477 0.49688 -0.63922 C 0.50191 -0.62974 0.49879 -0.63506 0.50608 -0.62303 C 0.50712 -0.61887 0.51111 -0.61424 0.5092 -0.61054 C 0.50191 -0.59667 0.49115 -0.5962 0.48004 -0.59227 C 0.4625 -0.59458 0.44514 -0.59828 0.42761 -0.60037 C 0.40677 -0.59852 0.39306 -0.5962 0.37379 -0.58811 C 0.36632 -0.58487 0.36875 -0.58765 0.36146 -0.58186 C 0.35833 -0.57932 0.35226 -0.57377 0.35226 -0.57377 C 0.35104 -0.56891 0.34896 -0.56475 0.35226 -0.55943 C 0.3533 -0.55781 0.35538 -0.55804 0.35695 -0.55735 C 0.36111 -0.55596 0.36927 -0.55319 0.36927 -0.55319 C 0.39826 -0.55411 0.42726 -0.55203 0.45538 -0.56151 C 0.46267 -0.56868 0.47031 -0.57099 0.47847 -0.57585 C 0.49462 -0.58556 0.51007 -0.5932 0.52761 -0.5962 C 0.54236 -0.60291 0.5566 -0.60615 0.56927 -0.61887 C 0.57552 -0.63598 0.56563 -0.65101 0.55538 -0.66188 C 0.53316 -0.6857 0.49896 -0.69519 0.47222 -0.70698 C 0.46059 -0.70305 0.44792 -0.69195 0.44149 -0.6783 C 0.43629 -0.6672 0.43576 -0.65356 0.42917 -0.64338 C 0.42153 -0.63159 0.40972 -0.62511 0.4 -0.61679 C 0.39375 -0.61147 0.38906 -0.60407 0.38299 -0.59828 C 0.37622 -0.59204 0.36858 -0.58649 0.36302 -0.57793 C 0.35868 -0.57123 0.36198 -0.57169 0.35851 -0.57169 E">
                                      <p:cBhvr>
                                        <p:cTn id="120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3350"/>
                            </p:stCondLst>
                            <p:childTnLst>
                              <p:par>
                                <p:cTn id="1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-0.08256 C -0.00486 -0.11309 -0.00122 -0.15125 -0.00052 -0.18085 C -0.00156 -0.20883 -0.00122 -0.23705 -0.00347 -0.26503 C -0.00382 -0.26966 -0.00677 -0.27313 -0.00816 -0.27729 C -0.02153 -0.31591 -0.04531 -0.34759 -0.07743 -0.35708 C -0.09097 -0.35569 -0.10278 -0.35245 -0.1158 -0.34898 C -0.12761 -0.35106 -0.13143 -0.35222 -0.14045 -0.36124 C -0.14219 -0.36494 -0.14948 -0.37997 -0.14966 -0.3839 C -0.15035 -0.39894 -0.1507 -0.41443 -0.14809 -0.429 C -0.13993 -0.47317 -0.09948 -0.50139 -0.07431 -0.52521 C -0.06268 -0.53608 -0.05591 -0.55412 -0.04966 -0.57031 C -0.0507 -0.58464 -0.04948 -0.59968 -0.05278 -0.61332 C -0.05521 -0.6235 -0.06198 -0.63113 -0.06667 -0.63992 C -0.08403 -0.67322 -0.11788 -0.679 -0.14514 -0.68501 C -0.16181 -0.68039 -0.16545 -0.67946 -0.17275 -0.6605 C -0.1783 -0.6235 -0.16927 -0.60823 -0.14966 -0.58048 C -0.12049 -0.53955 -0.08247 -0.51549 -0.05278 -0.47595 C -0.04115 -0.46045 -0.02969 -0.44357 -0.02361 -0.42276 C -0.02118 -0.41466 -0.01736 -0.39824 -0.01736 -0.39801 C -0.01111 -0.34019 -0.03316 -0.29163 -0.06198 -0.25069 C -0.07413 -0.23358 -0.09323 -0.21092 -0.10972 -0.20352 C -0.14045 -0.18964 -0.17118 -0.18386 -0.20347 -0.18085 C -0.28091 -0.18293 -0.35851 -0.18386 -0.43577 -0.19126 C -0.45799 -0.19935 -0.48108 -0.20074 -0.50347 -0.20745 C -0.53195 -0.216 -0.56094 -0.22387 -0.5882 -0.23821 C -0.62101 -0.25532 -0.64861 -0.28654 -0.679 -0.31013 C -0.69427 -0.32192 -0.70938 -0.3321 -0.72205 -0.34898 C -0.73663 -0.36841 -0.74566 -0.39477 -0.76042 -0.41443 C -0.77761 -0.43733 -0.79531 -0.45398 -0.8066 -0.48427 C -0.8125 -0.5 -0.81702 -0.51711 -0.82205 -0.5333 C -0.82448 -0.54117 -0.825 -0.54972 -0.82656 -0.55805 C -0.82743 -0.56221 -0.82969 -0.57031 -0.82969 -0.57007 C -0.82761 -0.59852 -0.82726 -0.61401 -0.82049 -0.63784 C -0.8158 -0.65426 -0.80486 -0.66697 -0.79584 -0.679 C -0.78646 -0.69149 -0.79653 -0.68478 -0.78195 -0.69935 C -0.75781 -0.7234 -0.73247 -0.74445 -0.70504 -0.76087 C -0.68768 -0.77128 -0.66858 -0.77983 -0.64966 -0.78353 C -0.64202 -0.78492 -0.6342 -0.78608 -0.62656 -0.78747 C -0.6224 -0.78816 -0.61424 -0.78955 -0.61424 -0.78932 C -0.56198 -0.7877 -0.51198 -0.78261 -0.46042 -0.77105 C -0.45538 -0.76781 -0.44636 -0.76318 -0.44202 -0.75671 C -0.43854 -0.75162 -0.43281 -0.74029 -0.43281 -0.74006 C -0.43143 -0.73265 -0.42952 -0.72549 -0.42813 -0.71785 C -0.42882 -0.7049 -0.42552 -0.68941 -0.43125 -0.679 C -0.43663 -0.66906 -0.44531 -0.65957 -0.45278 -0.65217 C -0.45521 -0.64292 -0.46667 -0.62974 -0.46667 -0.62951 C -0.46927 -0.61933 -0.47275 -0.60916 -0.47587 -0.59898 C -0.47691 -0.58742 -0.47847 -0.57724 -0.48038 -0.56614 C -0.47986 -0.56198 -0.48125 -0.55689 -0.479 -0.55389 C -0.47743 -0.5518 -0.47483 -0.55574 -0.47275 -0.55597 C -0.46459 -0.55712 -0.45625 -0.55735 -0.44809 -0.55805 C -0.42865 -0.56175 -0.4092 -0.56499 -0.38976 -0.56822 C -0.36927 -0.57169 -0.32813 -0.57239 -0.32813 -0.57216 C -0.31007 -0.571 -0.29358 -0.56961 -0.27587 -0.56614 C -0.27448 -0.57192 -0.27292 -0.57609 -0.26962 -0.58048 E">
                                      <p:cBhvr>
                                        <p:cTn id="123" dur="5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8350"/>
                            </p:stCondLst>
                            <p:childTnLst>
                              <p:par>
                                <p:cTn id="125" nodeType="afterEffect" fill="hold" presetClass="exit" presetID="48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4350"/>
                            </p:stCondLst>
                            <p:childTnLst>
                              <p:par>
                                <p:cTn id="132" nodeType="afterEffect" fill="hold" presetClass="exit" presetID="48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iagram of U.S. Checks and balances.&#13;&#10;Legislative can confirm or reject appointments by the executive (including judges).&#13;&#10;Executive can veto legislation and appoint judges.&#13;&#10;Judicial can declare acts of the executive or legislature to be unconstitutional.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Eras Demi ITC"/>
              </a:rPr>
              <a:t>Analysi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are some problems with the checks and balances system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Constitution is vague in some parts of these powers.  How can this cause a problem for each branch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ow does this system promote cooperation between the branches of governmen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ich branch has the most power?  Wh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Eras Demi ITC"/>
              </a:rPr>
              <a:t>Separation of Power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Dividing different powers among three branches of govern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Prevents one branch from gaining too much pow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Legislative, Judicial, and Executive branches have their own unique pow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ch2fig2"/>
          <p:cNvPicPr/>
          <p:nvPr/>
        </p:nvPicPr>
        <p:blipFill>
          <a:blip r:embed="rId1"/>
          <a:srcRect l="0" t="0" r="0" b="114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Eras Demi ITC"/>
              </a:rPr>
              <a:t>Analysi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"/>
              </a:rPr>
              <a:t>Why is it important to separate the powers of the government?  Think about the other principles of democracy…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empus Sans ITC"/>
              </a:rPr>
              <a:t>Checks and Balance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owers each branch has that allows them to check up on the other branch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events branches from abusing their pow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eserves the separation of power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quires cooperation between the branches of govern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gislative Branch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(House and Senate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n override a presidential ve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n impeach and remove the presid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atifies presidential appoint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uthorizes/appropriates funds for legisl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cks on the judici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n impeach and remove judg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nfirms federal judg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xecutive Branch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(President and Cabinet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poses legislation (law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etoes legislation (law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kes treaties w/ foreign countr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ecks on the judici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points federal jud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forces court decis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Judicial Branch</a:t>
            </a:r>
            <a:br>
              <a:rPr sz="48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Supreme Court and Lower Court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views executive decis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ecks on Congr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views congressional law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udicial Review (executive and legislative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preme Court Justices appointed for lif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54380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22:36:56Z</dcterms:created>
  <dc:creator>Patrick Scible</dc:creator>
  <dc:description/>
  <dc:language>en-US</dc:language>
  <cp:lastModifiedBy>Tarean</cp:lastModifiedBy>
  <dcterms:modified xsi:type="dcterms:W3CDTF">2013-09-02T07:04:14Z</dcterms:modified>
  <cp:revision>6</cp:revision>
  <dc:subject/>
  <dc:title>Separation of Powers Checks and Balances</dc:title>
</cp:coreProperties>
</file>